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4CFA-D4A2-4E1E-8D2E-1257B3C05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455C-ECDD-4DF0-A8A0-EE03E8A63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5979-D1CF-4494-94D6-109F40B3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AB2B-7CF3-44BC-AE2F-0B6A3253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65FC-7A4D-4C45-A425-8A1DB374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D079-411A-46A7-B7EA-E74B9A34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C1C0-464F-41DC-B2CC-30E3F8C2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0347-7B93-42CF-BB94-A6A33298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D889-77AC-45E1-A081-BF4731FE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BAF9-8E17-47FF-95D9-24F05657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8832-102D-4384-96EE-42E8DDF3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7B2E-D604-4D8A-A161-72F1B912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BC53-3EE4-4AE9-B834-FD608740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976C-8747-4A40-BFF6-7DB117F6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03F6-9024-45A3-A745-F096EA850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2.jpeg"/><Relationship Id="rId9" Type="http://schemas.openxmlformats.org/officeDocument/2006/relationships/image" Target="../media/image1.jpeg"/><Relationship Id="rId10" Type="http://schemas.openxmlformats.org/officeDocument/2006/relationships/image" Target="../media/image6.jpeg"/><Relationship Id="rId11" Type="http://schemas.openxmlformats.org/officeDocument/2006/relationships/image" Target="../media/image7.jpeg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rittany Gre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Brittany Gre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2860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Brittany Greve 16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5146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5146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Brittany Grev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7432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Brittany Greve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7432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29718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1981080" y="16002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29718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2004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3341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304920" y="51055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To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2670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76320" y="3200400"/>
            <a:ext cx="175248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i llamo es brittany. Yo vivo en New York City.  Tengo catorce años. Yo tengo uno hermana. Yo amo gimnásticas y música. Yo tengo cabello rojo y ojos ver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1066680" y="51055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tr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0" y="624852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raldin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294560" y="60958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ann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971800" y="4038480"/>
            <a:ext cx="6019920" cy="6858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43434"/>
                </a:solidFill>
                <a:latin typeface="Apple Symbols"/>
                <a:ea typeface="Apple Symbols"/>
              </a:rPr>
              <a:t>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43434"/>
                </a:solidFill>
                <a:latin typeface="Apple Symbols"/>
                <a:ea typeface="Apple Symbols"/>
              </a:rPr>
              <a:t>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43434"/>
                </a:solidFill>
                <a:latin typeface="Apple Symbols"/>
                <a:ea typeface="Apple Symbols"/>
              </a:rPr>
              <a:t></a:t>
            </a:r>
            <a:r>
              <a:rPr b="0" lang="es-ES_tradnl" sz="1200" spc="-1" strike="noStrike">
                <a:solidFill>
                  <a:srgbClr val="000000"/>
                </a:solidFill>
                <a:latin typeface="Apple Symbols"/>
                <a:ea typeface="Apple Symbols"/>
              </a:rPr>
              <a:t>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3048120" y="3352680"/>
            <a:ext cx="59436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o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oy loco ahora. Estoy enfermo porque mi hermana. Esta enfermo todavía ¿Por qué es fiesta mañana?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uestros proyecto es muy mala! Nosotros son va a fracas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. Hoy es tres de Diciembre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971800" y="2438280"/>
            <a:ext cx="6019920" cy="7621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Patri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! Estoy muy cansado. ¿Dónde vives? Nosotros somos listo para el fiesta! Mi amigo pensar usted es muy bonita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sotros tenemos abrir mañana! Tú miras muy vieja! Chau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entario: 1 hora ago.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Hoy es tres de Diciembre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3048120" y="4876920"/>
            <a:ext cx="586728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anna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soy muy bien. Tú eres muy linda en el sus fotos escuela! Tengo a trabajar mañana! Muy arrepintió! Escuch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 tu mamá! Hablo a tu hermano, ella es muy bien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hago   Octubre 22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3048120" y="5562720"/>
            <a:ext cx="594360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erald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noches! ¿Cuánto es el helado en escuela? Quiero helado antes su casa! Hasta pronto! Estamos muy bi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jo       Octubre 22, de 2012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3048120" y="6248520"/>
            <a:ext cx="52578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tephan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ñana hoy es una  prueba. Yo no puedo venir. Ellos son tienen un fiesta para Andrea! Pero te am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: Comentario 5 sceonds ajo            Octubre 22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6"/>
          <p:cNvSpPr/>
          <p:nvPr/>
        </p:nvSpPr>
        <p:spPr>
          <a:xfrm>
            <a:off x="1905120" y="1905120"/>
            <a:ext cx="502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tardes! ¿Cómo estás mis amigos?  ¿ Puede venir a mi casa mañan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2"/>
          <p:cNvSpPr/>
          <p:nvPr/>
        </p:nvSpPr>
        <p:spPr>
          <a:xfrm>
            <a:off x="610920" y="6095880"/>
            <a:ext cx="74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phan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9" descr="111"/>
          <p:cNvPicPr/>
          <p:nvPr/>
        </p:nvPicPr>
        <p:blipFill>
          <a:blip r:embed="rId1"/>
          <a:stretch/>
        </p:blipFill>
        <p:spPr>
          <a:xfrm>
            <a:off x="1981080" y="2514600"/>
            <a:ext cx="838440" cy="628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0" descr="007"/>
          <p:cNvPicPr/>
          <p:nvPr/>
        </p:nvPicPr>
        <p:blipFill>
          <a:blip r:embed="rId2"/>
          <a:stretch/>
        </p:blipFill>
        <p:spPr>
          <a:xfrm>
            <a:off x="2133720" y="3276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1" descr="956"/>
          <p:cNvPicPr/>
          <p:nvPr/>
        </p:nvPicPr>
        <p:blipFill>
          <a:blip r:embed="rId3"/>
          <a:stretch/>
        </p:blipFill>
        <p:spPr>
          <a:xfrm>
            <a:off x="2209680" y="403848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2" descr="900"/>
          <p:cNvPicPr/>
          <p:nvPr/>
        </p:nvPicPr>
        <p:blipFill>
          <a:blip r:embed="rId4"/>
          <a:stretch/>
        </p:blipFill>
        <p:spPr>
          <a:xfrm>
            <a:off x="457200" y="380880"/>
            <a:ext cx="743040" cy="990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3" descr="387"/>
          <p:cNvPicPr/>
          <p:nvPr/>
        </p:nvPicPr>
        <p:blipFill>
          <a:blip r:embed="rId5"/>
          <a:stretch/>
        </p:blipFill>
        <p:spPr>
          <a:xfrm>
            <a:off x="2209680" y="48769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4" descr="843"/>
          <p:cNvPicPr/>
          <p:nvPr/>
        </p:nvPicPr>
        <p:blipFill>
          <a:blip r:embed="rId6"/>
          <a:stretch/>
        </p:blipFill>
        <p:spPr>
          <a:xfrm>
            <a:off x="2286000" y="5562720"/>
            <a:ext cx="457200" cy="609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5" descr="945"/>
          <p:cNvPicPr/>
          <p:nvPr/>
        </p:nvPicPr>
        <p:blipFill>
          <a:blip r:embed="rId7"/>
          <a:stretch/>
        </p:blipFill>
        <p:spPr>
          <a:xfrm>
            <a:off x="2286000" y="6248520"/>
            <a:ext cx="539640" cy="539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6" descr="007"/>
          <p:cNvPicPr/>
          <p:nvPr/>
        </p:nvPicPr>
        <p:blipFill>
          <a:blip r:embed="rId8"/>
          <a:stretch/>
        </p:blipFill>
        <p:spPr>
          <a:xfrm>
            <a:off x="228600" y="4572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7" descr="111"/>
          <p:cNvPicPr/>
          <p:nvPr/>
        </p:nvPicPr>
        <p:blipFill>
          <a:blip r:embed="rId9"/>
          <a:stretch/>
        </p:blipFill>
        <p:spPr>
          <a:xfrm>
            <a:off x="990720" y="4572000"/>
            <a:ext cx="761760" cy="571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8" descr="843"/>
          <p:cNvPicPr/>
          <p:nvPr/>
        </p:nvPicPr>
        <p:blipFill>
          <a:blip r:embed="rId10"/>
          <a:stretch/>
        </p:blipFill>
        <p:spPr>
          <a:xfrm>
            <a:off x="76320" y="5486400"/>
            <a:ext cx="571320" cy="762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9" descr="945"/>
          <p:cNvPicPr/>
          <p:nvPr/>
        </p:nvPicPr>
        <p:blipFill>
          <a:blip r:embed="rId11"/>
          <a:stretch/>
        </p:blipFill>
        <p:spPr>
          <a:xfrm>
            <a:off x="685800" y="5562720"/>
            <a:ext cx="615960" cy="609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0" descr="956"/>
          <p:cNvPicPr/>
          <p:nvPr/>
        </p:nvPicPr>
        <p:blipFill>
          <a:blip r:embed="rId12"/>
          <a:stretch/>
        </p:blipFill>
        <p:spPr>
          <a:xfrm>
            <a:off x="1371600" y="5486400"/>
            <a:ext cx="5716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3-01-02T18:26:03Z</dcterms:modified>
  <cp:revision>120</cp:revision>
  <dc:subject/>
  <dc:title>Profile</dc:title>
</cp:coreProperties>
</file>